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AFB78-BBB9-431C-8552-150455DE3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E2D9F-4E85-4DE9-A775-30D25CEE0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77B24-0B40-4267-AE86-818F76560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D760B-539D-4A9A-887A-171BD4FEA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00072-CAE3-4689-B3AE-36803F5AB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79632-90A1-4BA0-853D-9D8852C9A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D4EAF-6703-49A9-A4DD-5A6512054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6BAED-7F2D-4A02-82ED-E2C0566FE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0D2F0-2B85-4B74-9953-8B864A31A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BAD4D-F391-4925-A7BB-41DCE27A6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8B5F7-7458-4083-A26D-0BE1A1B01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A2EF0-F11F-4024-B326-FBE671FFD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EDF59-54D7-405A-A32C-E32CA2170A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>
            <a:hlinkClick r:id="" action="ppaction://hlinkshowjump?jump=nextslide"/>
          </p:cNvPr>
          <p:cNvSpPr/>
          <p:nvPr/>
        </p:nvSpPr>
        <p:spPr>
          <a:xfrm>
            <a:off x="7696080" y="5562720"/>
            <a:ext cx="1447920" cy="1295280"/>
          </a:xfrm>
          <a:custGeom>
            <a:avLst/>
            <a:gdLst>
              <a:gd name="textAreaLeft" fmla="*/ 83880 w 1447920"/>
              <a:gd name="textAreaRight" fmla="*/ 1364040 w 1447920"/>
              <a:gd name="textAreaTop" fmla="*/ 83880 h 1295280"/>
              <a:gd name="textAreaBottom" fmla="*/ 1211400 h 1295280"/>
            </a:gdLst>
            <a:ahLst/>
            <a:rect l="textAreaLeft" t="textAreaTop" r="textAreaRight" b="textAreaBottom"/>
            <a:pathLst>
              <a:path w="24145" h="21600">
                <a:moveTo>
                  <a:pt x="0" y="0"/>
                </a:moveTo>
                <a:lnTo>
                  <a:pt x="24145" y="0"/>
                </a:lnTo>
                <a:lnTo>
                  <a:pt x="24145" y="21600"/>
                </a:lnTo>
                <a:lnTo>
                  <a:pt x="0" y="21600"/>
                </a:lnTo>
                <a:close/>
              </a:path>
              <a:path fill="lightenLess" w="24145" h="21600">
                <a:moveTo>
                  <a:pt x="0" y="0"/>
                </a:moveTo>
                <a:lnTo>
                  <a:pt x="24145" y="0"/>
                </a:lnTo>
                <a:lnTo>
                  <a:pt x="22745" y="1400"/>
                </a:lnTo>
                <a:lnTo>
                  <a:pt x="1400" y="1400"/>
                </a:lnTo>
                <a:close/>
              </a:path>
              <a:path fill="darken" w="24145" h="21600">
                <a:moveTo>
                  <a:pt x="24145" y="0"/>
                </a:moveTo>
                <a:lnTo>
                  <a:pt x="24145" y="21600"/>
                </a:lnTo>
                <a:lnTo>
                  <a:pt x="22745" y="20200"/>
                </a:lnTo>
                <a:lnTo>
                  <a:pt x="22745" y="1400"/>
                </a:lnTo>
                <a:close/>
              </a:path>
              <a:path fill="darkenLess" w="24145" h="21600">
                <a:moveTo>
                  <a:pt x="241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45" y="20200"/>
                </a:lnTo>
                <a:close/>
              </a:path>
              <a:path fill="lighten" w="241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45" h="21600">
                <a:moveTo>
                  <a:pt x="5066" y="3794"/>
                </a:moveTo>
                <a:lnTo>
                  <a:pt x="19079" y="10800"/>
                </a:lnTo>
                <a:lnTo>
                  <a:pt x="506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>
            <a:hlinkClick r:id="" action="ppaction://hlinkshowjump?jump=nextslide"/>
          </p:cNvPr>
          <p:cNvSpPr/>
          <p:nvPr/>
        </p:nvSpPr>
        <p:spPr>
          <a:xfrm>
            <a:off x="7696080" y="5562720"/>
            <a:ext cx="1447920" cy="1295280"/>
          </a:xfrm>
          <a:custGeom>
            <a:avLst/>
            <a:gdLst>
              <a:gd name="textAreaLeft" fmla="*/ 83880 w 1447920"/>
              <a:gd name="textAreaRight" fmla="*/ 1364040 w 1447920"/>
              <a:gd name="textAreaTop" fmla="*/ 83880 h 1295280"/>
              <a:gd name="textAreaBottom" fmla="*/ 1211400 h 1295280"/>
            </a:gdLst>
            <a:ahLst/>
            <a:rect l="textAreaLeft" t="textAreaTop" r="textAreaRight" b="textAreaBottom"/>
            <a:pathLst>
              <a:path w="24145" h="21600">
                <a:moveTo>
                  <a:pt x="0" y="0"/>
                </a:moveTo>
                <a:lnTo>
                  <a:pt x="24145" y="0"/>
                </a:lnTo>
                <a:lnTo>
                  <a:pt x="24145" y="21600"/>
                </a:lnTo>
                <a:lnTo>
                  <a:pt x="0" y="21600"/>
                </a:lnTo>
                <a:close/>
              </a:path>
              <a:path fill="lightenLess" w="24145" h="21600">
                <a:moveTo>
                  <a:pt x="0" y="0"/>
                </a:moveTo>
                <a:lnTo>
                  <a:pt x="24145" y="0"/>
                </a:lnTo>
                <a:lnTo>
                  <a:pt x="22745" y="1400"/>
                </a:lnTo>
                <a:lnTo>
                  <a:pt x="1400" y="1400"/>
                </a:lnTo>
                <a:close/>
              </a:path>
              <a:path fill="darken" w="24145" h="21600">
                <a:moveTo>
                  <a:pt x="24145" y="0"/>
                </a:moveTo>
                <a:lnTo>
                  <a:pt x="24145" y="21600"/>
                </a:lnTo>
                <a:lnTo>
                  <a:pt x="22745" y="20200"/>
                </a:lnTo>
                <a:lnTo>
                  <a:pt x="22745" y="1400"/>
                </a:lnTo>
                <a:close/>
              </a:path>
              <a:path fill="darkenLess" w="24145" h="21600">
                <a:moveTo>
                  <a:pt x="241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45" y="20200"/>
                </a:lnTo>
                <a:close/>
              </a:path>
              <a:path fill="lighten" w="241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45" h="21600">
                <a:moveTo>
                  <a:pt x="5066" y="3794"/>
                </a:moveTo>
                <a:lnTo>
                  <a:pt x="19079" y="10800"/>
                </a:lnTo>
                <a:lnTo>
                  <a:pt x="506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>
            <a:hlinkClick r:id="" action="ppaction://hlinkshowjump?jump=previousslide"/>
          </p:cNvPr>
          <p:cNvSpPr/>
          <p:nvPr/>
        </p:nvSpPr>
        <p:spPr>
          <a:xfrm>
            <a:off x="0" y="5562720"/>
            <a:ext cx="1447920" cy="1295280"/>
          </a:xfrm>
          <a:custGeom>
            <a:avLst/>
            <a:gdLst>
              <a:gd name="textAreaLeft" fmla="*/ 83880 w 1447920"/>
              <a:gd name="textAreaRight" fmla="*/ 1364040 w 1447920"/>
              <a:gd name="textAreaTop" fmla="*/ 83880 h 1295280"/>
              <a:gd name="textAreaBottom" fmla="*/ 1211400 h 1295280"/>
            </a:gdLst>
            <a:ahLst/>
            <a:rect l="textAreaLeft" t="textAreaTop" r="textAreaRight" b="textAreaBottom"/>
            <a:pathLst>
              <a:path w="24145" h="21600">
                <a:moveTo>
                  <a:pt x="0" y="0"/>
                </a:moveTo>
                <a:lnTo>
                  <a:pt x="24145" y="0"/>
                </a:lnTo>
                <a:lnTo>
                  <a:pt x="24145" y="21600"/>
                </a:lnTo>
                <a:lnTo>
                  <a:pt x="0" y="21600"/>
                </a:lnTo>
                <a:close/>
              </a:path>
              <a:path fill="lightenLess" w="24145" h="21600">
                <a:moveTo>
                  <a:pt x="0" y="0"/>
                </a:moveTo>
                <a:lnTo>
                  <a:pt x="24145" y="0"/>
                </a:lnTo>
                <a:lnTo>
                  <a:pt x="22745" y="1400"/>
                </a:lnTo>
                <a:lnTo>
                  <a:pt x="1400" y="1400"/>
                </a:lnTo>
                <a:close/>
              </a:path>
              <a:path fill="darken" w="24145" h="21600">
                <a:moveTo>
                  <a:pt x="24145" y="0"/>
                </a:moveTo>
                <a:lnTo>
                  <a:pt x="24145" y="21600"/>
                </a:lnTo>
                <a:lnTo>
                  <a:pt x="22745" y="20200"/>
                </a:lnTo>
                <a:lnTo>
                  <a:pt x="22745" y="1400"/>
                </a:lnTo>
                <a:close/>
              </a:path>
              <a:path fill="darkenLess" w="24145" h="21600">
                <a:moveTo>
                  <a:pt x="241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45" y="20200"/>
                </a:lnTo>
                <a:close/>
              </a:path>
              <a:path fill="lighten" w="241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45" h="21600">
                <a:moveTo>
                  <a:pt x="5066" y="10800"/>
                </a:moveTo>
                <a:lnTo>
                  <a:pt x="19079" y="3794"/>
                </a:lnTo>
                <a:lnTo>
                  <a:pt x="19079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>
            <a:hlinkClick r:id="" action="ppaction://hlinkshowjump?jump=previousslide"/>
          </p:cNvPr>
          <p:cNvSpPr/>
          <p:nvPr/>
        </p:nvSpPr>
        <p:spPr>
          <a:xfrm>
            <a:off x="0" y="5562720"/>
            <a:ext cx="1447920" cy="1295280"/>
          </a:xfrm>
          <a:custGeom>
            <a:avLst/>
            <a:gdLst>
              <a:gd name="textAreaLeft" fmla="*/ 83880 w 1447920"/>
              <a:gd name="textAreaRight" fmla="*/ 1364040 w 1447920"/>
              <a:gd name="textAreaTop" fmla="*/ 83880 h 1295280"/>
              <a:gd name="textAreaBottom" fmla="*/ 1211400 h 1295280"/>
            </a:gdLst>
            <a:ahLst/>
            <a:rect l="textAreaLeft" t="textAreaTop" r="textAreaRight" b="textAreaBottom"/>
            <a:pathLst>
              <a:path w="24145" h="21600">
                <a:moveTo>
                  <a:pt x="0" y="0"/>
                </a:moveTo>
                <a:lnTo>
                  <a:pt x="24145" y="0"/>
                </a:lnTo>
                <a:lnTo>
                  <a:pt x="24145" y="21600"/>
                </a:lnTo>
                <a:lnTo>
                  <a:pt x="0" y="21600"/>
                </a:lnTo>
                <a:close/>
              </a:path>
              <a:path fill="lightenLess" w="24145" h="21600">
                <a:moveTo>
                  <a:pt x="0" y="0"/>
                </a:moveTo>
                <a:lnTo>
                  <a:pt x="24145" y="0"/>
                </a:lnTo>
                <a:lnTo>
                  <a:pt x="22745" y="1400"/>
                </a:lnTo>
                <a:lnTo>
                  <a:pt x="1400" y="1400"/>
                </a:lnTo>
                <a:close/>
              </a:path>
              <a:path fill="darken" w="24145" h="21600">
                <a:moveTo>
                  <a:pt x="24145" y="0"/>
                </a:moveTo>
                <a:lnTo>
                  <a:pt x="24145" y="21600"/>
                </a:lnTo>
                <a:lnTo>
                  <a:pt x="22745" y="20200"/>
                </a:lnTo>
                <a:lnTo>
                  <a:pt x="22745" y="1400"/>
                </a:lnTo>
                <a:close/>
              </a:path>
              <a:path fill="darkenLess" w="24145" h="21600">
                <a:moveTo>
                  <a:pt x="241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45" y="20200"/>
                </a:lnTo>
                <a:close/>
              </a:path>
              <a:path fill="lighten" w="241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45" h="21600">
                <a:moveTo>
                  <a:pt x="5066" y="10800"/>
                </a:moveTo>
                <a:lnTo>
                  <a:pt x="19079" y="3794"/>
                </a:lnTo>
                <a:lnTo>
                  <a:pt x="19079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21T16:03:08Z</dcterms:created>
  <dc:creator>Cheryl Briggs</dc:creator>
  <dc:description/>
  <dc:language>en-US</dc:language>
  <cp:lastModifiedBy>Cheryl Briggs</cp:lastModifiedBy>
  <dcterms:modified xsi:type="dcterms:W3CDTF">2006-07-21T16:08:04Z</dcterms:modified>
  <cp:revision>1</cp:revision>
  <dc:subject/>
  <dc:title>Slide 1</dc:title>
</cp:coreProperties>
</file>